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339-A158-4DD6-9659-5AE56CFD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DC0-A93C-4E9F-A1A0-F80A90D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73D-6C77-4022-A0E0-2754D76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C8F-C182-4D87-8130-7E3D17F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35E-0D09-40B1-AA67-AB5B996F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203-14A0-4484-8FAF-2B40637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A7BC-8BA0-424F-BDEB-359C66F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59F-1820-4906-BB1C-7292BE3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989-00B6-42A5-9170-382A559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7D36-B297-4927-B6D0-491217D5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020-D0D8-4F0F-93A2-B2A62B2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FDD-7E63-4115-86B9-1557309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507-CA6B-4C9F-AE89-D793991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F46-E6D5-443D-B1F8-B4B95381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9A5-5BEA-4D10-A828-22E8845B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DECE-0F20-4350-A780-9F3F6C51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806-B3CA-4FE1-868A-08C87BFE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E50-712D-42DB-8917-617027E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857-3529-4318-8DE5-C489698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FEC-29DB-4AF1-9237-3CC4AEBE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046-D024-4A56-9D78-1A39C700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B37-D24A-49B9-B8BE-9A0023B0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390-21A1-46DC-98C5-9A0E6F1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E40-2806-41F9-BCEF-AF6F986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4A8-132A-4659-A4A0-6E671EA9531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D29-68C9-4011-948D-8EE5E88E5C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Exciting Day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eshm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writing better senten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Cask of Amontilla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 was so tired i wanted to lay down my dad he suggested that i ate in an hou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new employee was requested to do there things first complete the Form second submit a reference and third he was asked to mail a resume to the personnel off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alogie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saic : exciting :: _____________ : creativ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____________: novelist :: Emily Dickinson : Po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tter sent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he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 Cask of Amontill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ge 5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rtunato never asks why he is being killed, why do you think this i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does Montresor trick Fortunato into coming to the vault with hi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s this the perfect crime? Does Montresor seem like he has closure now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o seems the most likeabl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Fortun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other party go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story follow Poe’s example. (At least one p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you didn’t deserve what happened to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</cp:lastModifiedBy>
  <dcterms:modified xsi:type="dcterms:W3CDTF">2009-08-24T04:10:57Z</dcterms:modified>
  <cp:revision>2</cp:revision>
  <dc:subject/>
  <dc:title>English Exciting Day 4</dc:title>
</cp:coreProperties>
</file>